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4E2-B5A8-4624-BA2F-F7E4C4D9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BCF-3340-42BB-AAA8-A6A1678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68B-22FC-4C6D-B1A2-256BAB09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FDE-9AA3-4A5C-9A01-488D0E2C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072D-6899-4A7E-80DB-AD30D995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4AC-880E-4D77-A761-0E7589C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F7D-7631-451C-88C8-7157E140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FC6-5031-4325-9071-7ED4621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3158-25A2-4F92-96A0-46F8FA57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AA4D-7F8D-4174-94EC-6D77CA6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E3E-47E7-43F6-96FD-3C97DA0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47C-3145-42A6-8DA1-0268C6D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B63-6039-4C95-AAC9-B16B1E4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CAB-06A2-4E79-BF50-D9F9E562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639A-8FB0-4C43-BD0B-6DA6D093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687F-B848-4E2D-AA4B-97DF6476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C9F-9996-4D75-8C5D-E5E995E6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E014-5509-4FA6-A166-32BD10EC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DBDC-2535-4D71-8E31-A3EDAE51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66E1-6B84-44FA-9E99-D1A625D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F30B-D2FC-42D4-89AC-7F621DB7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B84E-224E-4F70-B24A-CB68B98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77D-B408-4802-9DBF-6387516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5F44-4438-4B38-92A8-BB14998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5215-5503-414E-B397-D183ADC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D052-7A56-4A76-96CF-5934A1A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EF2C-2B1E-4966-B91D-1F6C331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193A-74AE-4911-B576-D5F3CC0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ADE1-4729-4BBD-8063-68646744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F76C-11FC-478C-9C7B-773276F4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C13F-11DA-47A8-9714-540FDADF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B558-4EE0-469A-A8DF-2551D333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B6C0-1FBB-4572-B613-EB7E239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E51-ED2A-4458-86E9-BBC1E57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8139-16FC-48D8-A586-0DAECD8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819D-5D48-4B8A-9E35-B6EE431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BFAA-4708-4B48-94ED-E0E033E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3731-D5B2-4719-A91B-F9D3867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5A9A-500E-4FBE-BBF7-5122DDF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A30C-DD00-47D7-8E6C-A1D9E67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D189-B1D6-4350-9604-1BACBA84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9A8E-FF2D-4398-AA4F-40B8E1E2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0772-12D9-418C-808E-7543851F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D5C-D4FC-4F49-A271-2A4C597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6B6-EBFE-4882-8E68-98196F9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F3B-EF95-4F9E-A6D6-EDD4A1F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750-933B-43D3-AF01-2EC6997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CD1-3AF3-42EC-9DD8-157746A5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95D-A270-4D0B-B863-C283B1F767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40C-68AD-4AAD-A774-FC68880824A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491-1786-4234-9D23-B569233B5E2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F98F-E0F2-4416-9EB5-22BF09FD7A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loo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arget in objec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accept a list of numbers. Do a for loop to check whether each number in the list is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 check([-4,7,0,-1,9]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828800" y="12193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count the number of even numbers in the l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coun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"No. of positive numbers is ",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thematical 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x= 7, y 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+ y =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-y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*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/ y = 3  (because both of them are integ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7.0 / 2.0 =  7 / 2.0 = 7.0 / 2 = 3.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% y = 1 (the reminder of the divis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 oper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n the reminder of the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2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2 =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% 3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% 3 =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3 =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if y is divisible by x, check if  y % x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even if x % 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odd if  x% 2 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z+ x 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+= x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+x   is the same as   z+=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meters pas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myFunc(name, ID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, 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 execute myFunc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Func(“John”, 2637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execute printList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1,2,3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7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the length of a list, use command len(myLis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You passed”, len(myList), “ parameter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else con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1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f test2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3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: after the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qual test, you must use “== “e.g. if x==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ondition after 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9BE-AF5C-430E-AF61-9C62059642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a number x as a parameter and checks if this number if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before looking to ans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12193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 check(x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23T22:19:24Z</dcterms:modified>
  <cp:revision>234</cp:revision>
  <dc:subject/>
  <dc:title>CPSC 203</dc:title>
</cp:coreProperties>
</file>